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9CD-64EF-4CD7-BB3E-6D91DD83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6F9-F03A-445B-97B2-65355AC5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F5B-4AD7-48F7-B465-E98FA0FE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1FC-64EA-43BE-AC42-8A48F285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3C3-DE0F-4CD4-B142-33B8314C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BB3-D605-454D-8AF3-0FFDAE96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B8A-35AF-4829-8947-6BA69ED1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5DD-6DCC-4126-8F32-2C6017AC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1A5-9A42-4B14-A49A-AF31AE0E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3F9-4337-4C88-A1FB-3EB47F58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0E5-A843-4374-8261-229B8E4B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BCD-4AF6-4BF0-9143-0478BF5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23E6-8278-422D-9A0B-1C82155E882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b050"/>
                </a:solidFill>
                <a:latin typeface="Calibri"/>
              </a:rPr>
              <a:t>Chapter 3 Bioregions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: Balanced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7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8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anff Springs Sn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95280" y="1424160"/>
            <a:ext cx="864072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urrowing Ow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95280" y="1733400"/>
            <a:ext cx="7927920" cy="4432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eatherback Tur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90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do these three creatures have in common?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part of the earth’s surface identified by its combination of natural and human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gardless of its size, every bioregion combines living species (including humans) and the non living factors that suppor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96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7:41:03Z</dcterms:created>
  <dc:creator>Jason</dc:creator>
  <dc:description/>
  <dc:language>en-US</dc:language>
  <cp:lastModifiedBy>Jason</cp:lastModifiedBy>
  <dcterms:modified xsi:type="dcterms:W3CDTF">2010-10-20T12:08:33Z</dcterms:modified>
  <cp:revision>11</cp:revision>
  <dc:subject/>
  <dc:title>Chapter 3 Bioregions: Balanced Communities</dc:title>
</cp:coreProperties>
</file>